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601200" cy="6400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95DE-0619-421A-A56B-6EBCDD4A9A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DCB0-2C8F-433A-B04F-08993C70C267}" type="slidenum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7372-5809-4588-A8DD-4A84F1EE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0720" y="384120"/>
            <a:ext cx="8159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0720" y="1848960"/>
            <a:ext cx="8159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20720" y="3854880"/>
            <a:ext cx="8159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CCA2-E786-4BBE-B657-AEBBABAD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0720" y="384120"/>
            <a:ext cx="8159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720" y="1848960"/>
            <a:ext cx="3981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01760" y="1848960"/>
            <a:ext cx="3981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20720" y="3854880"/>
            <a:ext cx="3981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01760" y="3854880"/>
            <a:ext cx="3981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283A-0176-4DCE-B54B-E7A07648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0720" y="384120"/>
            <a:ext cx="8159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0720" y="1848960"/>
            <a:ext cx="26272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479760" y="1848960"/>
            <a:ext cx="26272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38800" y="1848960"/>
            <a:ext cx="26272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720720" y="3854880"/>
            <a:ext cx="26272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479760" y="3854880"/>
            <a:ext cx="26272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238800" y="3854880"/>
            <a:ext cx="26272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A662-6327-4007-9894-D76E1E8B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7492-F090-4447-97A5-EC7F6F35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0720" y="384120"/>
            <a:ext cx="8159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20720" y="1848960"/>
            <a:ext cx="8159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1994-9E78-483E-9920-055734A6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0720" y="384120"/>
            <a:ext cx="8159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0720" y="1848960"/>
            <a:ext cx="8159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50F2-E980-48FF-93EE-F3CEF70A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0720" y="384120"/>
            <a:ext cx="8159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0720" y="1848960"/>
            <a:ext cx="3981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01760" y="1848960"/>
            <a:ext cx="3981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F1AE-8B9E-4406-B327-799855FF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20720" y="384120"/>
            <a:ext cx="8159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B634-B8BC-434D-85E5-BD1C11D1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720720" y="384120"/>
            <a:ext cx="815976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94C3-9681-4289-B4C2-1869F754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0720" y="384120"/>
            <a:ext cx="8159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20720" y="1848960"/>
            <a:ext cx="3981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01760" y="1848960"/>
            <a:ext cx="3981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20720" y="3854880"/>
            <a:ext cx="3981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93A9-BE12-458B-815E-888ADA8F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0720" y="384120"/>
            <a:ext cx="8159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720720" y="1848960"/>
            <a:ext cx="8159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363B-AD48-4DCD-ACAE-F06BE83F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0720" y="384120"/>
            <a:ext cx="8159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20720" y="1848960"/>
            <a:ext cx="3981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01760" y="1848960"/>
            <a:ext cx="3981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01760" y="3854880"/>
            <a:ext cx="3981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6368-A1CC-4AAC-9098-CC2428C3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20720" y="384120"/>
            <a:ext cx="8159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20720" y="1848960"/>
            <a:ext cx="3981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01760" y="1848960"/>
            <a:ext cx="3981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20720" y="3854880"/>
            <a:ext cx="8159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A758-56A6-44AD-AC55-13AF2EDB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0720" y="384120"/>
            <a:ext cx="8159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0720" y="1848960"/>
            <a:ext cx="8159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20720" y="3854880"/>
            <a:ext cx="8159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2DBD-E56B-4D49-A574-32C751D9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0720" y="384120"/>
            <a:ext cx="8159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20720" y="1848960"/>
            <a:ext cx="3981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01760" y="1848960"/>
            <a:ext cx="3981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20720" y="3854880"/>
            <a:ext cx="3981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01760" y="3854880"/>
            <a:ext cx="3981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C44B-D018-4E93-9C4D-BA0A40FF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0720" y="384120"/>
            <a:ext cx="8159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20720" y="1848960"/>
            <a:ext cx="26272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479760" y="1848960"/>
            <a:ext cx="26272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38800" y="1848960"/>
            <a:ext cx="26272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20720" y="3854880"/>
            <a:ext cx="26272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479760" y="3854880"/>
            <a:ext cx="26272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238800" y="3854880"/>
            <a:ext cx="26272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E192-7B1D-418B-A5E2-F0528994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84120"/>
            <a:ext cx="8159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0720" y="1848960"/>
            <a:ext cx="8159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2E48-0AA6-4DC6-9110-A30740A5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0720" y="384120"/>
            <a:ext cx="8159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20720" y="1848960"/>
            <a:ext cx="3981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01760" y="1848960"/>
            <a:ext cx="3981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65D3-627B-4923-8739-F73C4E9C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20720" y="384120"/>
            <a:ext cx="8159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F51A-8138-44EF-B35F-B6C844C7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20720" y="384120"/>
            <a:ext cx="815976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68A9-B0CD-4629-BD38-C5A04F8F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720" y="384120"/>
            <a:ext cx="8159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0720" y="1848960"/>
            <a:ext cx="3981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01760" y="1848960"/>
            <a:ext cx="3981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20720" y="3854880"/>
            <a:ext cx="3981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3394-A65F-4602-8128-734E5930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720" y="384120"/>
            <a:ext cx="8159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0720" y="1848960"/>
            <a:ext cx="3981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01760" y="1848960"/>
            <a:ext cx="3981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01760" y="3854880"/>
            <a:ext cx="3981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CF27-EA6E-4537-ADE5-E3CD8E10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720" y="384120"/>
            <a:ext cx="8159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720" y="1848960"/>
            <a:ext cx="3981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1760" y="1848960"/>
            <a:ext cx="3981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20720" y="3854880"/>
            <a:ext cx="8159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E9AC-57E4-41BF-B439-22421EA0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402920" y="-217440"/>
            <a:ext cx="11003760" cy="7182000"/>
            <a:chOff x="-1402920" y="-217440"/>
            <a:chExt cx="11003760" cy="7182000"/>
          </a:xfrm>
        </p:grpSpPr>
        <p:sp>
          <p:nvSpPr>
            <p:cNvPr id="1" name="Freeform 3"/>
            <p:cNvSpPr/>
            <p:nvPr/>
          </p:nvSpPr>
          <p:spPr>
            <a:xfrm>
              <a:off x="2720160" y="5760"/>
              <a:ext cx="2894760" cy="64195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895120" cy="6413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40600" y="7200"/>
              <a:ext cx="2898720" cy="6415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200400" y="0"/>
              <a:ext cx="3466800" cy="640656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94760" y="156960"/>
              <a:ext cx="5840640" cy="22755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585080" y="1054800"/>
              <a:ext cx="3769200" cy="1680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8240" y="85680"/>
              <a:ext cx="5840640" cy="22755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315440" y="1412640"/>
              <a:ext cx="5191560" cy="25599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217960" y="1365480"/>
              <a:ext cx="5990760" cy="25704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3097440" y="1294200"/>
              <a:ext cx="5840280" cy="22755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084080" y="2880"/>
              <a:ext cx="1815480" cy="33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5806440"/>
              <a:ext cx="9600840" cy="63972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720160" y="5874480"/>
              <a:ext cx="2894760" cy="5655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5874480"/>
              <a:ext cx="2895120" cy="564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6240600" y="5874480"/>
              <a:ext cx="2898720" cy="5655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200400" y="5874480"/>
              <a:ext cx="3466800" cy="5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5798880"/>
              <a:ext cx="9600840" cy="63972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305240" y="5818320"/>
              <a:ext cx="1726920" cy="6220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573280" y="5726160"/>
              <a:ext cx="1570680" cy="799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373040" y="5726160"/>
              <a:ext cx="1570680" cy="799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146520" y="5679000"/>
              <a:ext cx="1531800" cy="811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59760" y="5805720"/>
              <a:ext cx="5920560" cy="639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99600" y="5805720"/>
              <a:ext cx="2560320" cy="639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5059800" y="5877720"/>
              <a:ext cx="2220120" cy="56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640560" y="5805720"/>
              <a:ext cx="2560320" cy="639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759640" y="5805720"/>
              <a:ext cx="3840120" cy="639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5837760"/>
              <a:ext cx="9600840" cy="201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20720" y="384120"/>
            <a:ext cx="8159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720720" y="1848960"/>
            <a:ext cx="8159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47720" y="5892840"/>
            <a:ext cx="200016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308400" y="5892840"/>
            <a:ext cx="303984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908760" y="5892840"/>
            <a:ext cx="200016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5F01-037B-4260-BBE0-B6871FDDF2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402920" y="-229680"/>
            <a:ext cx="11014920" cy="6641640"/>
            <a:chOff x="-1402920" y="-229680"/>
            <a:chExt cx="11014920" cy="6641640"/>
          </a:xfrm>
        </p:grpSpPr>
        <p:sp>
          <p:nvSpPr>
            <p:cNvPr id="70" name="Freeform 3"/>
            <p:cNvSpPr/>
            <p:nvPr/>
          </p:nvSpPr>
          <p:spPr>
            <a:xfrm>
              <a:off x="2720160" y="-6480"/>
              <a:ext cx="2894760" cy="6418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9360"/>
              <a:ext cx="2895120" cy="6412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6240240" y="-5040"/>
              <a:ext cx="2898360" cy="6414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200040" y="-12600"/>
              <a:ext cx="3466800" cy="6405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94760" y="144360"/>
              <a:ext cx="5840280" cy="2275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585440" y="1042200"/>
              <a:ext cx="3768480" cy="16794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8240" y="73080"/>
              <a:ext cx="5840280" cy="2275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315440" y="1400400"/>
              <a:ext cx="5190480" cy="25599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218320" y="1352880"/>
              <a:ext cx="5990400" cy="2570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3098160" y="1281960"/>
              <a:ext cx="5839920" cy="22755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7083360" y="-9360"/>
              <a:ext cx="1815120" cy="3384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616560"/>
              <a:ext cx="9600480" cy="63972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720160" y="3684600"/>
              <a:ext cx="2894760" cy="5655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684600"/>
              <a:ext cx="2895120" cy="564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6240240" y="3684600"/>
              <a:ext cx="2898360" cy="5655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200040" y="3684600"/>
              <a:ext cx="3466800" cy="5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520" y="3638880"/>
              <a:ext cx="9600480" cy="63972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304880" y="3628440"/>
              <a:ext cx="1726920" cy="6220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573640" y="3536640"/>
              <a:ext cx="1570320" cy="799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373400" y="3536640"/>
              <a:ext cx="1570320" cy="799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146160" y="3489120"/>
              <a:ext cx="1531800" cy="811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59040" y="3615840"/>
              <a:ext cx="5920200" cy="639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99600" y="3615840"/>
              <a:ext cx="2560320" cy="639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5059440" y="3687840"/>
              <a:ext cx="2220120" cy="56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640200" y="3615840"/>
              <a:ext cx="2560320" cy="639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759640" y="3615840"/>
              <a:ext cx="3840120" cy="639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647880"/>
              <a:ext cx="9600480" cy="201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267080"/>
              <a:ext cx="9600480" cy="8532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049000"/>
              <a:ext cx="9600480" cy="1351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310040" y="2444760"/>
              <a:ext cx="339840" cy="30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0720" y="384120"/>
            <a:ext cx="8159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20720" y="1848960"/>
            <a:ext cx="8159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720720" y="5901840"/>
            <a:ext cx="200016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279600" y="5901840"/>
            <a:ext cx="304200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880320" y="5901840"/>
            <a:ext cx="200016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88A2-20D6-4F39-8199-19B4592D25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60400" y="1777680"/>
            <a:ext cx="7601040" cy="17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cc00"/>
                </a:solidFill>
                <a:latin typeface="Arial Black"/>
              </a:rPr>
              <a:t>Transferable Skill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760040" y="4266720"/>
            <a:ext cx="6720120" cy="15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med" advTm="12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720720" y="385560"/>
            <a:ext cx="8159760" cy="58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cc00"/>
                </a:solidFill>
                <a:latin typeface="Arial"/>
              </a:rPr>
              <a:t>Work Placemen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66"/>
                </a:solidFill>
                <a:latin typeface="Arial"/>
              </a:rPr>
              <a:t>Transfer of existing skills into indust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66"/>
                </a:solidFill>
                <a:latin typeface="Arial"/>
              </a:rPr>
              <a:t>Work with qualified people in your fie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66"/>
                </a:solidFill>
                <a:latin typeface="Arial"/>
              </a:rPr>
              <a:t>Work on challenging projects, allowing you to develop existing skills and acquire new sk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ffff66"/>
                </a:solidFill>
                <a:uFillTx/>
                <a:latin typeface="Arial"/>
              </a:rPr>
              <a:t>Reflect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</a:rPr>
              <a:t> on and </a:t>
            </a:r>
            <a:r>
              <a:rPr b="0" lang="en-IE" sz="2400" spc="-1" strike="noStrike" u="sng">
                <a:solidFill>
                  <a:srgbClr val="ffff66"/>
                </a:solidFill>
                <a:uFillTx/>
                <a:latin typeface="Arial"/>
              </a:rPr>
              <a:t>record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</a:rPr>
              <a:t> these skills in your Log Book. This will allow you to draw on them later as part of your graduate job search strate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66"/>
                </a:solidFill>
                <a:latin typeface="Arial"/>
              </a:rPr>
              <a:t>S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</a:rPr>
              <a:t>Sit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</a:rPr>
              <a:t>Tas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</a:rPr>
              <a:t>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66"/>
                </a:solidFill>
                <a:latin typeface="Arial"/>
              </a:rPr>
              <a:t>R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2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52280" y="-360"/>
            <a:ext cx="9220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Situation: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ured my placement with X Company, working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as a Junior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Task: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ssigned to work on the start-up and maintenance of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…….and assist Department Manager to achie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partmental targets and standa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Action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s responsible for…..from start through to finis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ried out tests and recorded results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lemented new system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2000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240" y="380520"/>
            <a:ext cx="865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152280" y="0"/>
            <a:ext cx="922032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Results: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velope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trong communication skill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liaising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 key personnel at weekly progress meetings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m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problem-solving skill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rough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earching possible solutions, analysing option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identifying optimum solution.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velope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project manag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kill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y planning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ork, setting deadlines, managing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orkload, prioritising daily tasks and achieving goal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720720" y="385920"/>
            <a:ext cx="815976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4800" spc="-1" strike="noStrike">
                <a:solidFill>
                  <a:srgbClr val="9ce157"/>
                </a:solidFill>
                <a:latin typeface="Arial"/>
              </a:rPr>
              <a:t>Good Luck on Placement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2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0720" y="331560"/>
            <a:ext cx="815976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cc00"/>
                </a:solidFill>
                <a:latin typeface="Arial"/>
              </a:rPr>
              <a:t>Conten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0720" y="1295280"/>
            <a:ext cx="815976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66"/>
                </a:solidFill>
                <a:latin typeface="Arial"/>
              </a:rPr>
              <a:t>What are Transferable Skil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66"/>
                </a:solidFill>
                <a:latin typeface="Arial"/>
              </a:rPr>
              <a:t>Examples of Transferable Ski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66"/>
                </a:solidFill>
                <a:latin typeface="Arial"/>
              </a:rPr>
              <a:t>Why do employers look for th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66"/>
                </a:solidFill>
                <a:latin typeface="Arial"/>
              </a:rPr>
              <a:t>Transferable Skill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66"/>
                </a:solidFill>
                <a:latin typeface="Arial"/>
              </a:rPr>
              <a:t>Highlighting your transferable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66"/>
                </a:solidFill>
                <a:latin typeface="Arial"/>
              </a:rPr>
              <a:t>Importance of analysing your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2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20720" y="385920"/>
            <a:ext cx="815976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676520" y="6094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600200" y="685800"/>
            <a:ext cx="746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600200" y="45720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479520" y="536400"/>
            <a:ext cx="8534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What are Transferable Skills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n-IE" sz="1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n-IE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ransferable skills are the skills you acquire during any activity in your life, that can be applied at a later stage in new situations i.e they can be transferred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 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You can acquire these skills through all sorts of activities e.g employment, projects, voluntary work, hobbies, sports.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0720" y="360360"/>
            <a:ext cx="8159760" cy="65088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cc00"/>
                </a:solidFill>
                <a:latin typeface="Arial"/>
              </a:rPr>
              <a:t>Examples of Transferable Skills</a:t>
            </a:r>
            <a:r>
              <a:rPr b="1" lang="en-IE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illingness to L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ommi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Dependability/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eam-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ommunication Sk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o-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Drive/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elf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Desire to Achieve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Moti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roblem Solving 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23920" y="1218960"/>
            <a:ext cx="4156200" cy="44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800600" y="1066680"/>
            <a:ext cx="3962520" cy="50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66"/>
                </a:solidFill>
                <a:latin typeface="Times New Roman"/>
              </a:rPr>
              <a:t>Analytical Abi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66"/>
                </a:solidFill>
                <a:latin typeface="Times New Roman"/>
              </a:rPr>
              <a:t>Flexibility/Adaptabi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66"/>
                </a:solidFill>
                <a:latin typeface="Times New Roman"/>
              </a:rPr>
              <a:t>Taking Initiativ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66"/>
                </a:solidFill>
                <a:latin typeface="Times New Roman"/>
              </a:rPr>
              <a:t>Summarising Key Issu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66"/>
                </a:solidFill>
                <a:latin typeface="Times New Roman"/>
              </a:rPr>
              <a:t>Logical Think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66"/>
                </a:solidFill>
                <a:latin typeface="Times New Roman"/>
              </a:rPr>
              <a:t>Numerac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66"/>
                </a:solidFill>
                <a:latin typeface="Times New Roman"/>
              </a:rPr>
              <a:t>Coping with Deadlin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66"/>
                </a:solidFill>
                <a:latin typeface="Times New Roman"/>
              </a:rPr>
              <a:t>Time Manage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66"/>
                </a:solidFill>
                <a:latin typeface="Times New Roman"/>
              </a:rPr>
              <a:t>Research Skil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0880" y="228600"/>
            <a:ext cx="849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Why do</a:t>
            </a:r>
            <a:r>
              <a:rPr b="1" lang="en-IE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 e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mployers look for the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With your Transferable Skills, employers see you as a very valuable source of skilled labo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Once you have acquired a skill, they know you have the capacity to transfer it into their organisation and to develop it further i.e. </a:t>
            </a:r>
            <a:r>
              <a:rPr b="0" i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Skill Progr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In your CV and at Interview, employers look for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Arial"/>
                <a:ea typeface="Times New Roman"/>
              </a:rPr>
              <a:t>concrete evidence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that you have the skills they are looking for i.e. </a:t>
            </a:r>
            <a:r>
              <a:rPr b="0" i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Skill Match</a:t>
            </a: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2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0000" y="151920"/>
            <a:ext cx="8161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en-IE" sz="3600" spc="-1" strike="noStrike">
                <a:solidFill>
                  <a:srgbClr val="ffcc00"/>
                </a:solidFill>
                <a:latin typeface="Arial"/>
              </a:rPr>
              <a:t>Transferable Skill Cycl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600360" y="1138320"/>
            <a:ext cx="2879640" cy="156348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600360" y="1138320"/>
            <a:ext cx="2960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KILL ACQUISI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quired via sports, employment, projects, voluntary work, hobbies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5"/>
          <p:cNvSpPr/>
          <p:nvPr/>
        </p:nvSpPr>
        <p:spPr>
          <a:xfrm>
            <a:off x="5200560" y="4906800"/>
            <a:ext cx="0" cy="355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6161040" y="2844720"/>
            <a:ext cx="2879640" cy="156528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600360" y="4622760"/>
            <a:ext cx="2879640" cy="156528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1039680" y="2844720"/>
            <a:ext cx="2881440" cy="156528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6240600" y="2916360"/>
            <a:ext cx="263988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KILL TRANSF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ills acquired in any situation applied to new situ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3521160" y="4765680"/>
            <a:ext cx="32004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KILL PROGRESS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ills can be developed &amp; improved in new situ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1039680" y="2987640"/>
            <a:ext cx="26402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KILL MATCH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ployer looks for concrete evidence in CV and at Interview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12"/>
          <p:cNvSpPr/>
          <p:nvPr/>
        </p:nvSpPr>
        <p:spPr>
          <a:xfrm>
            <a:off x="2000160" y="1920960"/>
            <a:ext cx="879480" cy="711000"/>
          </a:xfrm>
          <a:prstGeom prst="pi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13"/>
          <p:cNvSpPr/>
          <p:nvPr/>
        </p:nvSpPr>
        <p:spPr>
          <a:xfrm rot="5400000">
            <a:off x="7129800" y="1840320"/>
            <a:ext cx="782640" cy="800280"/>
          </a:xfrm>
          <a:prstGeom prst="pi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14"/>
          <p:cNvSpPr/>
          <p:nvPr/>
        </p:nvSpPr>
        <p:spPr>
          <a:xfrm rot="16200000">
            <a:off x="2009520" y="4755960"/>
            <a:ext cx="781200" cy="800280"/>
          </a:xfrm>
          <a:prstGeom prst="pi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15"/>
          <p:cNvSpPr/>
          <p:nvPr/>
        </p:nvSpPr>
        <p:spPr>
          <a:xfrm rot="10800000">
            <a:off x="6879960" y="4906800"/>
            <a:ext cx="880920" cy="711360"/>
          </a:xfrm>
          <a:prstGeom prst="pi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60400" y="1777680"/>
            <a:ext cx="760104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760040" y="4266720"/>
            <a:ext cx="6720120" cy="15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Object 1028"/>
          <p:cNvGraphicFramePr/>
          <p:nvPr/>
        </p:nvGraphicFramePr>
        <p:xfrm>
          <a:off x="0" y="0"/>
          <a:ext cx="9601200" cy="6400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9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6012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AutoShape 1030"/>
          <p:cNvSpPr/>
          <p:nvPr/>
        </p:nvSpPr>
        <p:spPr>
          <a:xfrm rot="16200000">
            <a:off x="3514680" y="3419640"/>
            <a:ext cx="781200" cy="799920"/>
          </a:xfrm>
          <a:prstGeom prst="pi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AutoShape 1031"/>
          <p:cNvSpPr/>
          <p:nvPr/>
        </p:nvSpPr>
        <p:spPr>
          <a:xfrm rot="10800000">
            <a:off x="5028840" y="3581280"/>
            <a:ext cx="880920" cy="711360"/>
          </a:xfrm>
          <a:prstGeom prst="pi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AutoShape 1032"/>
          <p:cNvSpPr/>
          <p:nvPr/>
        </p:nvSpPr>
        <p:spPr>
          <a:xfrm>
            <a:off x="3657600" y="2133720"/>
            <a:ext cx="879480" cy="711000"/>
          </a:xfrm>
          <a:prstGeom prst="pi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AutoShape 1034"/>
          <p:cNvSpPr/>
          <p:nvPr/>
        </p:nvSpPr>
        <p:spPr>
          <a:xfrm rot="5400000">
            <a:off x="5227920" y="2180160"/>
            <a:ext cx="782640" cy="800280"/>
          </a:xfrm>
          <a:prstGeom prst="pi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720720" y="152280"/>
            <a:ext cx="81597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cc00"/>
                </a:solidFill>
                <a:latin typeface="Arial"/>
              </a:rPr>
              <a:t>Highlighting your Transferable Ski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Transferable skills must be highlighted on your  CV and be the focus of discussion at intervie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Be aware of your own Transferable Sk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Research the company and job descrip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What key job skills are they looking f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Where did I develop these skills in the pa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At interview, show you have these skills by giving concrete examp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Employer sees a </a:t>
            </a:r>
            <a:r>
              <a:rPr b="0" lang="en-IE" sz="2800" spc="-1" strike="noStrike" u="sng">
                <a:solidFill>
                  <a:srgbClr val="ffff66"/>
                </a:solidFill>
                <a:uFillTx/>
                <a:latin typeface="Arial"/>
                <a:ea typeface="Times New Roman"/>
              </a:rPr>
              <a:t>Skill Match</a:t>
            </a:r>
            <a:r>
              <a:rPr b="0" lang="en-IE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between what they want and what you have to off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2000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533160" y="-36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Importance of analysing your Ski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You may not be aware of it, but, as you progress through college and through life generally, you are acquiring a number of these 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job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skills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During Placement you will have the chance to transfer and apply these skills in a new situation in the workpla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Ability to meet deadlines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Writing Skills (Repor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Willingness to learn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Team-work Sk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Analytical Ability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Research Sk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Problem-solving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Motivation to ach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2000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4:32:22Z</dcterms:created>
  <dc:creator/>
  <dc:description/>
  <dc:language>en-US</dc:language>
  <cp:lastModifiedBy>Bright</cp:lastModifiedBy>
  <dcterms:modified xsi:type="dcterms:W3CDTF">2013-08-23T08:04:46Z</dcterms:modified>
  <cp:revision>70</cp:revision>
  <dc:subject/>
  <dc:title>PowerPoint Presentation</dc:title>
</cp:coreProperties>
</file>